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5DF-BCEC-47AF-9795-AF52C189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AA9-DB78-4D32-9AEE-A3F8BF82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18D-2E9A-4AA7-B11B-72C640DF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F67-345E-442C-88C3-CBB0A1E9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0D07-B2C2-41B9-807A-1702DE79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F413-74BE-4957-AE91-2304E2C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A818-DD54-48D7-86B3-ECA74210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D28A-E4A4-4731-BD68-D2D23A46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385E-33F3-4414-A73A-43EAE302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61A-D69E-4C2F-B14D-71130A92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AD4D-99CA-47DA-BB56-38EE3C08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608-DB6B-47D1-AA4D-DE126A89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76B6-C9F6-4281-8072-37ED1F43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311-D3CC-4334-B01E-F3600FF9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1431-5D91-4F58-8D59-D9D8C834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449B-42AB-4764-A40B-D6DCF57B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88C2-5956-43EF-9EE2-E0361B61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045-001F-4B2D-942F-5B6B57BB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A12-104D-4211-9B70-AA1F57A0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EE1-6522-4DE9-BD5B-7BC436D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1FE-5E56-41B1-A4C1-8DB01DA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28D-CA69-4041-80A8-A350E3F8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323-68BB-4C70-A749-CCE6D0D5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181-62E8-4100-82AD-E0AEDE2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A87-2E10-49DF-BA1A-A677167E2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D8E-B710-4923-80F3-C89888BD8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www.google.com/url?sa=i&amp;rct=j&amp;q=&amp;esrc=s&amp;frm=1&amp;source=images&amp;cd=&amp;cad=rja&amp;docid=bFGUohhyFbn0OM&amp;tbnid=iovEh239cI1SfM:&amp;ved=0CAUQjRw&amp;url=http%3A%2F%2Fwww.bhs.umn.edu%2Falcohol-drugs%2Fstandard-drink.htm&amp;ei=ARmAUbeZKqiq2wWP1IDQDQ&amp;bvm=bv.45645796,d.b2I&amp;psig=AFQjCNH1PXVztMEh96YjPinturLFohe9EQ&amp;ust=136743584316620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www.google.com/url?sa=i&amp;rct=j&amp;q=&amp;esrc=s&amp;frm=1&amp;source=images&amp;cd=&amp;cad=rja&amp;docid=V3gbHClCFkByZM&amp;tbnid=vxSX48iF7DYNRM:&amp;ved=0CAUQjRw&amp;url=http%3A%2F%2Fwww.celebrities-with-diseases.com%2Fobesity-fat%2Fun-summit-targets-obesity-alcohol-and-smoking-19020.html&amp;ei=bRiAUZVViOrZBbKhgagB&amp;bvm=bv.45645796,d.b2I&amp;psig=AFQjCNESaXhDlx5ttYru-mRL96c5nPOz8w&amp;ust=1367435733872444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00720" y="1752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d 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600" y="17524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1800" y="1752480"/>
            <a:ext cx="1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66680" y="1752480"/>
            <a:ext cx="721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hree colorless, odorless drugs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HB, Rohypnol (also called Roofies) and Ketamine (also called Special K) are used to commit this type of cri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9240" y="213372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pe or sexual assa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86120" y="182880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al age to buy alcoh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74320" y="220968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1 years 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52480" y="22860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cohol is a depressant, which means it does this to your hear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09680" y="198108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lows down your heart or makes it beat slow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52480" y="1752480"/>
            <a:ext cx="61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sides being alcoholic beverages, a 12 oz. can of beer and a 1 ½ oz. shot of whiskey have this in comm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00680" y="1905120"/>
            <a:ext cx="69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ain the same amount of alcoh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3505320"/>
            <a:ext cx="53434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23880" y="190512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wo people (who are 21 years of age or older) drink the same amount of alcohol, name two reasons why the alcohol could affect them differentl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00200" y="1905120"/>
            <a:ext cx="614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dyweight, gender, family history, metabolism, how fast they drink, tolerance, or the amount of food in the stom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52480" y="2514600"/>
            <a:ext cx="59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HC in this drug changes how the brain works and makes it harder to lear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43000" y="1981080"/>
            <a:ext cx="72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m used to describe when someone has 5 or more alcoholic drinks on right after the oth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22400" y="1828800"/>
            <a:ext cx="31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nge drink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00200" y="1905120"/>
            <a:ext cx="646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are under the age of 21, this is the amount of alcohol allowed in your blood in order to legally drive a ca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78880" y="21337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er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05120" y="1981080"/>
            <a:ext cx="58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dical reason that narcotics (like Vicodin, Oxycontin, or Hydrocodone) are prescribed to patient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666880" y="18288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pain management or pain relie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43000" y="19051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including car crashes and unintentional accidents, name one other major cause of death for youth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366280" y="1752480"/>
            <a:ext cx="40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icide or homic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0200" y="198108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al age to appear in an alcohol commerci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50640" y="190512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5 years 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55560" y="1981080"/>
            <a:ext cx="22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jua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47920" y="1981080"/>
            <a:ext cx="68356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number o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ason given by youth for why they choose not to use alcohol or other dru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wanting to upset or disappoint their pare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43000" y="1981080"/>
            <a:ext cx="730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every 8 smokers that tobacco kills, one non-smoker will also die because of thi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45720" y="1905120"/>
            <a:ext cx="40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-hand smok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57880" y="2133720"/>
            <a:ext cx="58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al age to buy cigaret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974320" y="205740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8 years 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981080" y="243828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2 life-threatening diseases smoking can lead 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371600" y="1981080"/>
            <a:ext cx="682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rt disease, stroke, emphysema, bronchitis, many types of cancer,  and high blood press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71600" y="190512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AILY DOU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ingredient in cigarettes that turns a smoker’s teeth yell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55200" y="21337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66880" y="2286000"/>
            <a:ext cx="390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wo drugs that kill the most people every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371600" y="1828800"/>
            <a:ext cx="66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number of people in the USA die each year from tobacco-related caus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507480" y="198108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40,00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1337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3 household products that are dangerous to inha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600200" y="1828800"/>
            <a:ext cx="714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lue, nail polish remover, air freshener, markers, cleaning products, gasoline, spray paint, laughing gas, lighter fluid, etc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1230480" cy="198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848720" y="1828800"/>
            <a:ext cx="911160" cy="2852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3352680" y="4734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410080" y="4724280"/>
            <a:ext cx="27100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6520" y="1905120"/>
            <a:ext cx="66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reasons children may try inhalants for the first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6520" y="1828800"/>
            <a:ext cx="64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er pressure, boredom, curiosity, rebellion, they are easy to get, or they believe that household products aren’t dangerou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143000" y="1981080"/>
            <a:ext cx="72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entering the lungs, inhalants go straight to this organ in the bod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508200" y="1905120"/>
            <a:ext cx="214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00200" y="2133720"/>
            <a:ext cx="65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erm used to describe people who abuse inha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669040" y="2057400"/>
            <a:ext cx="37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iffers or huff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70480" y="1905120"/>
            <a:ext cx="41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cohol and tobacc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429000"/>
            <a:ext cx="3581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76520" y="1905120"/>
            <a:ext cx="64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haling this product kills the most abusers every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355200" y="198108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oli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676520" y="3657600"/>
            <a:ext cx="3390840" cy="22478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1981080"/>
            <a:ext cx="630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teenagers die from the use of this drug than from the use of all other drugs combined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752480"/>
            <a:ext cx="246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276720" y="3276720"/>
            <a:ext cx="25621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14400" y="2057400"/>
            <a:ext cx="758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drug commonly found at raves and dance clubs that can cause permanent brain damage after only one us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20960" y="1905120"/>
            <a:ext cx="386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stasy or MDM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14400" y="1981080"/>
            <a:ext cx="72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teens enter drug treatment every year for this drug than for all other illegal drugs combin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9600" y="2209680"/>
            <a:ext cx="22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jua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tech</cp:lastModifiedBy>
  <dcterms:modified xsi:type="dcterms:W3CDTF">2013-04-30T19:40:25Z</dcterms:modified>
  <cp:revision>21</cp:revision>
  <dc:subject/>
  <dc:title>Jeopardy</dc:title>
</cp:coreProperties>
</file>